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AE9-B25C-428A-9972-D95E0AA4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C10-14AD-49C9-9760-79BE84E6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38A-EF56-4941-810B-D5D5CB67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7AC-1719-4149-BE69-ABED9952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716-63FF-4715-AE6A-65707874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355-8821-4326-B32D-B17257E3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52C-5B49-45C5-ADD6-A23C0830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6F3-05F6-49E9-BCF3-C23A7147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404-24A2-4539-8D8E-49D6F928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E97-040F-42DB-902B-B23512BA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5D1-A12A-49A0-A281-3DF0991A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C9E-9CF1-40DB-B46B-96DC7DA5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8C11-B9C4-4241-A23C-667D0B839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0280"/>
            <a:ext cx="86040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– n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die – nobody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nca – ne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nada-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… ni… - neither…n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mpoco – n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mo – I smok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ma - he / she smok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man – they sm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916280"/>
            <a:ext cx="820908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mar = to smo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body smokes 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never smoke 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have never smoked (using perfect) 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e doesn’t smoke either __No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ither Jo nor Nicky smoke ever 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557360"/>
            <a:ext cx="8497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using negativ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isten to a description of opinions on smok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work together on final role-plays on the subject of healt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do a quiz based on a description of an accid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234936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Fu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9700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íntomas (2), desde hace cuánto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350028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Qué comiste ay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458136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TESTA A LA PREG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89000"/>
            <a:ext cx="712944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parejas, decide como contestar a las pregunt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234936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Haces mucho ejerci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19700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íntomas (2), desde hace cuánto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50028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Qué bebiste ay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581360"/>
            <a:ext cx="62485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TESTA A LA PREG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6:11:49Z</dcterms:created>
  <dc:creator>Owner1</dc:creator>
  <dc:description/>
  <dc:language>en-US</dc:language>
  <cp:lastModifiedBy>Owner1</cp:lastModifiedBy>
  <dcterms:modified xsi:type="dcterms:W3CDTF">2008-11-11T15:59:13Z</dcterms:modified>
  <cp:revision>3</cp:revision>
  <dc:subject/>
  <dc:title>Slide 1</dc:title>
</cp:coreProperties>
</file>